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D2E45-CD63-4F09-B77E-87BBD6072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1752480" y="152388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E44D2-2F43-496C-B534-99FC4EAA1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D7D41-AFBD-4D6B-8B60-C89C72BAD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17524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1230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332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7524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1230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332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682DE-59F9-4E46-A248-CFA775243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70DE44-BA72-413D-A70E-73F367761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type="subTitle"/>
          </p:nvPr>
        </p:nvSpPr>
        <p:spPr>
          <a:xfrm>
            <a:off x="1752480" y="1523880"/>
            <a:ext cx="70106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68EE5-CABE-4033-BA89-43AF96C11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A6921-FFB9-4E91-ADAE-D1D90D4B0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487CF-0A63-4D6D-8FB6-1DD9262F6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916DD-204D-4CA9-BDC7-B91670413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0ACBA-4991-4A50-914F-975639032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5D02A-4986-451B-A8A6-61F266AE7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1752480" y="1523880"/>
            <a:ext cx="70106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74C2C-C573-4BFA-AA20-F0F1A13B1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85243-B3BC-4671-9E95-2C2BCB162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6E077-2EDE-4AE7-9B13-32A9CEB58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1752480" y="152388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BDBDA-A94C-4001-B3F8-3BC6BCD79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1"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8BAE7-72D1-4FE5-8FD6-7DF871EBD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17524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1230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9332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7524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1230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9332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FEB81-FA99-4695-834D-CE7C5E7C0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0032A-1E84-4CFD-9646-7E23A7C8D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3A756-1C2E-428B-84F1-0ADE57D9B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C62F6-DE94-4D0F-ABD9-95E3DDDFD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F70AF-6D1A-49F8-BE87-A21E6ADF5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97695-48A6-4A82-A058-BBC41209A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21CFD-B667-4ADE-BEE1-7173AC7CE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3BC0B-B866-443F-968E-8A125ED42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905120" y="640080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316400" y="6400800"/>
            <a:ext cx="2084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391520" y="640080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DF561-42FA-47E8-BE17-CD0EDDF003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640F-6779-42C9-8504-A4EFB3850D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8EAF-F82C-49D4-ADE4-5751E85E12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533160" y="541080"/>
            <a:ext cx="7978680" cy="189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able of Contents</a:t>
            </a:r>
            <a:br>
              <a:rPr sz="1600"/>
            </a:br>
            <a:br>
              <a:rPr sz="1600"/>
            </a:br>
            <a:r>
              <a:rPr b="1" lang="en-US" sz="1600" spc="-1" strike="noStrike">
                <a:solidFill>
                  <a:srgbClr val="cc0000"/>
                </a:solidFill>
                <a:latin typeface="Arial"/>
              </a:rPr>
              <a:t>Introduction…………………………………………………………………………..</a:t>
            </a:r>
            <a:br>
              <a:rPr sz="1600"/>
            </a:br>
            <a:r>
              <a:rPr b="1" lang="en-US" sz="1600" spc="-1" strike="noStrike">
                <a:solidFill>
                  <a:srgbClr val="cc0000"/>
                </a:solidFill>
                <a:latin typeface="Arial"/>
              </a:rPr>
              <a:t>Statement of the Problem………………………………………………………….</a:t>
            </a:r>
            <a:br>
              <a:rPr sz="1600"/>
            </a:br>
            <a:r>
              <a:rPr b="1" lang="en-US" sz="1600" spc="-1" strike="noStrike">
                <a:solidFill>
                  <a:srgbClr val="cc0000"/>
                </a:solidFill>
                <a:latin typeface="Arial"/>
              </a:rPr>
              <a:t>Literature Review……………………………………………………………………</a:t>
            </a:r>
            <a:br>
              <a:rPr sz="1600"/>
            </a:br>
            <a:r>
              <a:rPr b="1" lang="en-US" sz="1600" spc="-1" strike="noStrike">
                <a:solidFill>
                  <a:srgbClr val="cc0000"/>
                </a:solidFill>
                <a:latin typeface="Arial"/>
              </a:rPr>
              <a:t>Statement of the Hypothesis………………………………………………………</a:t>
            </a:r>
            <a:br>
              <a:rPr sz="1600"/>
            </a:br>
            <a:br>
              <a:rPr sz="1600"/>
            </a:br>
            <a:endParaRPr b="1" lang="en-US" sz="1600" spc="-1" strike="noStrike">
              <a:solidFill>
                <a:srgbClr val="000000"/>
              </a:solidFill>
              <a:latin typeface="Arial"/>
            </a:endParaRPr>
          </a:p>
        </p:txBody>
      </p:sp>
      <p:sp>
        <p:nvSpPr>
          <p:cNvPr id="84" name="PlaceHolder 2"/>
          <p:cNvSpPr>
            <a:spLocks noGrp="1"/>
          </p:cNvSpPr>
          <p:nvPr>
            <p:ph type="subTitle"/>
          </p:nvPr>
        </p:nvSpPr>
        <p:spPr>
          <a:xfrm>
            <a:off x="4572000" y="3581280"/>
            <a:ext cx="4191120" cy="1828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E19A9-791F-4E80-8CCF-0E98643153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Review of Literature Continued</a:t>
            </a:r>
            <a:endParaRPr b="1" lang="en-US" sz="3600" spc="-1" strike="noStrike">
              <a:solidFill>
                <a:srgbClr val="000000"/>
              </a:solidFill>
              <a:latin typeface="Arial"/>
            </a:endParaRPr>
          </a:p>
        </p:txBody>
      </p:sp>
      <p:sp>
        <p:nvSpPr>
          <p:cNvPr id="122" name="PlaceHolder 2"/>
          <p:cNvSpPr>
            <a:spLocks noGrp="1"/>
          </p:cNvSpPr>
          <p:nvPr>
            <p:ph/>
          </p:nvPr>
        </p:nvSpPr>
        <p:spPr>
          <a:xfrm>
            <a:off x="1752480" y="1531800"/>
            <a:ext cx="6670800" cy="4121280"/>
          </a:xfrm>
          <a:prstGeom prst="rect">
            <a:avLst/>
          </a:prstGeom>
          <a:noFill/>
          <a:ln w="0">
            <a:noFill/>
          </a:ln>
        </p:spPr>
        <p:txBody>
          <a:bodyPr anchor="t">
            <a:normAutofit/>
          </a:bodyPr>
          <a:p>
            <a:pPr lvl="1" marL="743040" indent="-285840">
              <a:lnSpc>
                <a:spcPct val="95000"/>
              </a:lnSpc>
              <a:spcBef>
                <a:spcPts val="451"/>
              </a:spcBef>
              <a:buClr>
                <a:srgbClr val="000000"/>
              </a:buClr>
              <a:buFont typeface="Arial"/>
              <a:buChar char="–"/>
              <a:tabLst>
                <a:tab algn="l" pos="28656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blishing a learning community that values the ideas and experiences of all its members will sustain new teachers through their early years.”  ( Watkins, 2005)</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28656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f the ineffective principals were described as a floater, a principal that was not directly involved with new teachers ( Angelle, 2002 ). </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28656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ful principals coupled induction programs and individual assistance to maximize professional development for new teachers ( Ganser, 2002). </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28656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ew teacher is not receiving support from their principal it can lead to a change in profession ( Powell, 2004 ).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43CE-1732-43A1-8CD3-7123F97BC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Research Questions</a:t>
            </a:r>
            <a:endParaRPr b="1" lang="en-US" sz="4000" spc="-1" strike="noStrike">
              <a:solidFill>
                <a:srgbClr val="000000"/>
              </a:solidFill>
              <a:latin typeface="Arial"/>
            </a:endParaRPr>
          </a:p>
        </p:txBody>
      </p:sp>
      <p:sp>
        <p:nvSpPr>
          <p:cNvPr id="125" name="PlaceHolder 2"/>
          <p:cNvSpPr>
            <a:spLocks noGrp="1"/>
          </p:cNvSpPr>
          <p:nvPr>
            <p:ph/>
          </p:nvPr>
        </p:nvSpPr>
        <p:spPr>
          <a:xfrm>
            <a:off x="2604960" y="1446120"/>
            <a:ext cx="5740560" cy="525960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egree of support perceived by beginning teachers affect their intent or desire to stay at their school site or in the profession?</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ew teachers rate the importance of various support issues differently based on variables in their demographic profil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upport is valued most highly by beginning teacher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C3B5-6AAE-41A3-A98B-BF73F2F681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p:nvPr>
        </p:nvSpPr>
        <p:spPr>
          <a:xfrm>
            <a:off x="1752120" y="1219320"/>
            <a:ext cx="7162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264F-4EB4-42C2-A604-68B12C9D34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p:nvPr>
        </p:nvSpPr>
        <p:spPr>
          <a:xfrm>
            <a:off x="1752120" y="1219320"/>
            <a:ext cx="71629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F555-23AD-4B88-9A46-4FE1521330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pic>
        <p:nvPicPr>
          <p:cNvPr id="134" name="" descr=""/>
          <p:cNvPicPr/>
          <p:nvPr/>
        </p:nvPicPr>
        <p:blipFill>
          <a:blip r:embed="rId1"/>
          <a:stretch/>
        </p:blipFill>
        <p:spPr>
          <a:xfrm>
            <a:off x="1752480" y="1523880"/>
            <a:ext cx="7010640" cy="4572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6CC07-BF51-4782-8B84-CB4849A173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p:nvPr>
        </p:nvSpPr>
        <p:spPr>
          <a:xfrm>
            <a:off x="1752120" y="1218960"/>
            <a:ext cx="7162920" cy="53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799C-89BA-4FAB-912B-C82B46E99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p:nvPr>
        </p:nvSpPr>
        <p:spPr>
          <a:xfrm>
            <a:off x="1752120" y="1218960"/>
            <a:ext cx="716292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2"/>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1"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61E7-0CFD-4238-A913-16EB5387EC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p:nvPr>
        </p:nvSpPr>
        <p:spPr>
          <a:xfrm>
            <a:off x="2133360" y="1444320"/>
            <a:ext cx="6373800" cy="49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Arial"/>
            </a:endParaRPr>
          </a:p>
        </p:txBody>
      </p:sp>
      <p:sp>
        <p:nvSpPr>
          <p:cNvPr id="145"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A226-AFE2-4337-8098-1F7A0F4139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46" name=""/>
          <p:cNvGraphicFramePr/>
          <p:nvPr/>
        </p:nvGraphicFramePr>
        <p:xfrm>
          <a:off x="1852560" y="1736640"/>
          <a:ext cx="6632640" cy="3768840"/>
        </p:xfrm>
        <a:graphic>
          <a:graphicData uri="http://schemas.openxmlformats.org/drawingml/2006/table">
            <a:tbl>
              <a:tblPr/>
              <a:tblGrid>
                <a:gridCol w="1662120"/>
                <a:gridCol w="1647720"/>
                <a:gridCol w="1667160"/>
                <a:gridCol w="1655640"/>
              </a:tblGrid>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69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1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00000"/>
              </a:solidFill>
              <a:latin typeface="Arial"/>
            </a:endParaRPr>
          </a:p>
        </p:txBody>
      </p:sp>
      <p:sp>
        <p:nvSpPr>
          <p:cNvPr id="148"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8771-783A-4C60-934E-DC964EC3E1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9" name="" descr=""/>
          <p:cNvPicPr/>
          <p:nvPr/>
        </p:nvPicPr>
        <p:blipFill>
          <a:blip r:embed="rId1"/>
          <a:stretch/>
        </p:blipFill>
        <p:spPr>
          <a:xfrm>
            <a:off x="1752480" y="1523880"/>
            <a:ext cx="7010640" cy="4572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EB79-4661-427B-92EB-472DEFF65A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Introduction</a:t>
            </a:r>
            <a:endParaRPr b="1" lang="en-US" sz="3600" spc="-1" strike="noStrike">
              <a:solidFill>
                <a:srgbClr val="000000"/>
              </a:solidFill>
              <a:latin typeface="Arial"/>
            </a:endParaRPr>
          </a:p>
        </p:txBody>
      </p:sp>
      <p:sp>
        <p:nvSpPr>
          <p:cNvPr id="87" name="PlaceHolder 2"/>
          <p:cNvSpPr>
            <a:spLocks noGrp="1"/>
          </p:cNvSpPr>
          <p:nvPr>
            <p:ph/>
          </p:nvPr>
        </p:nvSpPr>
        <p:spPr>
          <a:xfrm>
            <a:off x="1752480" y="1295280"/>
            <a:ext cx="7391520" cy="556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 personal experience, I believe that the support and individual attention provided by the principal, staff and the administration is the key in teacher retention.  As a novice teacher myself, I feel that my principal and administration took the time to assist me in understanding our school culture. Yet, many of my less supported colleagues have already changed schools, or are very unhappy with the teaching profession as a whol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can be done to help new and novice teach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What Leadership styles support new and novice teach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does this effect teacher retention?</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0960" y="570240"/>
            <a:ext cx="6842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6a6a6"/>
              </a:solidFill>
              <a:latin typeface="Arial"/>
            </a:endParaRPr>
          </a:p>
        </p:txBody>
      </p:sp>
      <p:sp>
        <p:nvSpPr>
          <p:cNvPr id="151"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3B6A-5B60-4176-9881-4C7991749F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 descr=""/>
          <p:cNvPicPr/>
          <p:nvPr/>
        </p:nvPicPr>
        <p:blipFill>
          <a:blip r:embed="rId1"/>
          <a:stretch/>
        </p:blipFill>
        <p:spPr>
          <a:xfrm>
            <a:off x="1752480" y="1523880"/>
            <a:ext cx="7010640" cy="457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Arial"/>
            </a:endParaRPr>
          </a:p>
        </p:txBody>
      </p:sp>
      <p:sp>
        <p:nvSpPr>
          <p:cNvPr id="154" name=""/>
          <p:cNvSpPr txBox="1"/>
          <p:nvPr/>
        </p:nvSpPr>
        <p:spPr>
          <a:xfrm>
            <a:off x="1752480" y="1523880"/>
            <a:ext cx="701064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7935-65E6-4CF4-9CAA-4A68BB1608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974600" y="1015920"/>
            <a:ext cx="6777000" cy="470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0C43-26E4-46D8-8055-6019223A39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F829-B2F4-41E9-9FE8-3C42374C6D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The Problem </a:t>
            </a:r>
            <a:endParaRPr b="1" lang="en-US" sz="3600" spc="-1" strike="noStrike">
              <a:solidFill>
                <a:srgbClr val="000000"/>
              </a:solidFill>
              <a:latin typeface="Arial"/>
            </a:endParaRPr>
          </a:p>
        </p:txBody>
      </p:sp>
      <p:sp>
        <p:nvSpPr>
          <p:cNvPr id="90" name="PlaceHolder 2"/>
          <p:cNvSpPr>
            <a:spLocks noGrp="1"/>
          </p:cNvSpPr>
          <p:nvPr>
            <p:ph/>
          </p:nvPr>
        </p:nvSpPr>
        <p:spPr>
          <a:xfrm>
            <a:off x="1752480" y="1295280"/>
            <a:ext cx="7010640" cy="51818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partment of education predicts the nation will need more that a million teachers by 2010.  Some estimate that 50% of beginning teachers will leave the profession with-in six years.”        (O’Brian, B.  200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an adequate support system, a novice teacher can become frustrated, depressed, isolate, anxious and resentful (Normore &amp; Floyd, 2005 ).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adequate support can play a role in overcoming these challenges and reducing teacher attrition </a:t>
            </a:r>
            <a:r>
              <a:rPr b="0" lang="en-US" sz="2400" spc="-1" strike="noStrike">
                <a:solidFill>
                  <a:srgbClr val="000000"/>
                </a:solidFill>
                <a:latin typeface="Arial"/>
              </a:rPr>
              <a:t>(Smith &amp; Ingersoll, 2004)</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3F57-7D25-4D87-9162-AF7EDC08D9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Purpose</a:t>
            </a:r>
            <a:endParaRPr b="1" lang="en-US" sz="4000" spc="-1" strike="noStrike">
              <a:solidFill>
                <a:srgbClr val="000000"/>
              </a:solidFill>
              <a:latin typeface="Arial"/>
            </a:endParaRPr>
          </a:p>
        </p:txBody>
      </p:sp>
      <p:sp>
        <p:nvSpPr>
          <p:cNvPr id="93" name="PlaceHolder 2"/>
          <p:cNvSpPr>
            <a:spLocks noGrp="1"/>
          </p:cNvSpPr>
          <p:nvPr>
            <p:ph/>
          </p:nvPr>
        </p:nvSpPr>
        <p:spPr>
          <a:xfrm>
            <a:off x="1752480" y="1523880"/>
            <a:ext cx="701064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research is to diminish new teacher isolation investigate the types of support that would be valuable for beginning teachers during induction years, and thus potentially increase overall teacher satisfaction and ret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953A-464D-4531-BA67-178BB55EA1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1852200" y="247680"/>
            <a:ext cx="65055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00000"/>
                </a:solidFill>
                <a:latin typeface="Arial"/>
              </a:rPr>
              <a:t>Components of Support</a:t>
            </a:r>
            <a:endParaRPr b="1" lang="en-US" sz="3100" spc="-1" strike="noStrike">
              <a:solidFill>
                <a:srgbClr val="000000"/>
              </a:solidFill>
              <a:latin typeface="Arial"/>
            </a:endParaRPr>
          </a:p>
        </p:txBody>
      </p:sp>
      <p:grpSp>
        <p:nvGrpSpPr>
          <p:cNvPr id="96" name="Diagram 41"/>
          <p:cNvGrpSpPr/>
          <p:nvPr/>
        </p:nvGrpSpPr>
        <p:grpSpPr>
          <a:xfrm>
            <a:off x="1908000" y="1749240"/>
            <a:ext cx="6244560" cy="4209120"/>
            <a:chOff x="1908000" y="1749240"/>
            <a:chExt cx="6244560" cy="4209120"/>
          </a:xfrm>
        </p:grpSpPr>
        <p:sp>
          <p:nvSpPr>
            <p:cNvPr id="97" name="_s1028"/>
            <p:cNvSpPr/>
            <p:nvPr/>
          </p:nvSpPr>
          <p:spPr>
            <a:xfrm>
              <a:off x="3288600" y="1751760"/>
              <a:ext cx="3480840" cy="2111400"/>
            </a:xfrm>
            <a:custGeom>
              <a:avLst/>
              <a:gdLst>
                <a:gd name="textAreaLeft" fmla="*/ 0 w 3480840"/>
                <a:gd name="textAreaRight" fmla="*/ 3481200 w 3480840"/>
                <a:gd name="textAreaTop" fmla="*/ 0 h 2111400"/>
                <a:gd name="textAreaBottom" fmla="*/ 2111760 h 21114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8" name="_s1029"/>
            <p:cNvSpPr/>
            <p:nvPr/>
          </p:nvSpPr>
          <p:spPr>
            <a:xfrm rot="4320000">
              <a:off x="5076360" y="1554120"/>
              <a:ext cx="2111400" cy="3480840"/>
            </a:xfrm>
            <a:custGeom>
              <a:avLst/>
              <a:gdLst>
                <a:gd name="textAreaLeft" fmla="*/ 0 w 2111400"/>
                <a:gd name="textAreaRight" fmla="*/ 2111760 w 2111400"/>
                <a:gd name="textAreaTop" fmla="*/ 0 h 3480840"/>
                <a:gd name="textAreaBottom" fmla="*/ 3481200 h 34808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9" name="_s1030"/>
            <p:cNvSpPr/>
            <p:nvPr/>
          </p:nvSpPr>
          <p:spPr>
            <a:xfrm rot="8640000">
              <a:off x="3970080" y="3025440"/>
              <a:ext cx="3480840" cy="2111400"/>
            </a:xfrm>
            <a:custGeom>
              <a:avLst/>
              <a:gdLst>
                <a:gd name="textAreaLeft" fmla="*/ 0 w 3480840"/>
                <a:gd name="textAreaRight" fmla="*/ 3481200 w 3480840"/>
                <a:gd name="textAreaTop" fmla="*/ 0 h 2111400"/>
                <a:gd name="textAreaBottom" fmla="*/ 2111760 h 21114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0" name="_s1031"/>
            <p:cNvSpPr/>
            <p:nvPr/>
          </p:nvSpPr>
          <p:spPr>
            <a:xfrm rot="12960000">
              <a:off x="2602800" y="3025080"/>
              <a:ext cx="3480840" cy="2111400"/>
            </a:xfrm>
            <a:custGeom>
              <a:avLst/>
              <a:gdLst>
                <a:gd name="textAreaLeft" fmla="*/ 0 w 3480840"/>
                <a:gd name="textAreaRight" fmla="*/ 3481200 w 3480840"/>
                <a:gd name="textAreaTop" fmla="*/ 0 h 2111400"/>
                <a:gd name="textAreaBottom" fmla="*/ 2111760 h 21114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1" name="_s1032"/>
            <p:cNvSpPr/>
            <p:nvPr/>
          </p:nvSpPr>
          <p:spPr>
            <a:xfrm rot="17280000">
              <a:off x="2866680" y="1550520"/>
              <a:ext cx="2111400" cy="3480840"/>
            </a:xfrm>
            <a:custGeom>
              <a:avLst/>
              <a:gdLst>
                <a:gd name="textAreaLeft" fmla="*/ 0 w 2111400"/>
                <a:gd name="textAreaRight" fmla="*/ 2111760 w 2111400"/>
                <a:gd name="textAreaTop" fmla="*/ 0 h 3480840"/>
                <a:gd name="textAreaBottom" fmla="*/ 3481200 h 34808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2" name="_s1033"/>
            <p:cNvSpPr/>
            <p:nvPr/>
          </p:nvSpPr>
          <p:spPr>
            <a:xfrm>
              <a:off x="5923440" y="1841400"/>
              <a:ext cx="1280880" cy="7768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ence</a:t>
              </a:r>
              <a:endParaRPr b="0" lang="en-US" sz="1200" spc="-1" strike="noStrike">
                <a:solidFill>
                  <a:srgbClr val="000000"/>
                </a:solidFill>
                <a:latin typeface="Arial"/>
              </a:endParaRPr>
            </a:p>
          </p:txBody>
        </p:sp>
        <p:sp>
          <p:nvSpPr>
            <p:cNvPr id="103" name="_s1034"/>
            <p:cNvSpPr/>
            <p:nvPr/>
          </p:nvSpPr>
          <p:spPr>
            <a:xfrm>
              <a:off x="1908000" y="3614040"/>
              <a:ext cx="1281240" cy="7768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ment</a:t>
              </a:r>
              <a:endParaRPr b="0" lang="en-US" sz="1200" spc="-1" strike="noStrike">
                <a:solidFill>
                  <a:srgbClr val="000000"/>
                </a:solidFill>
                <a:latin typeface="Arial"/>
              </a:endParaRPr>
            </a:p>
          </p:txBody>
        </p:sp>
        <p:sp>
          <p:nvSpPr>
            <p:cNvPr id="104" name="_s1035"/>
            <p:cNvSpPr/>
            <p:nvPr/>
          </p:nvSpPr>
          <p:spPr>
            <a:xfrm>
              <a:off x="2853720" y="1842840"/>
              <a:ext cx="1280880" cy="777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a:t>
              </a:r>
              <a:endParaRPr b="0" lang="en-US" sz="1200" spc="-1" strike="noStrike">
                <a:solidFill>
                  <a:srgbClr val="000000"/>
                </a:solidFill>
                <a:latin typeface="Arial"/>
              </a:endParaRPr>
            </a:p>
          </p:txBody>
        </p:sp>
        <p:sp>
          <p:nvSpPr>
            <p:cNvPr id="105" name="_s1036"/>
            <p:cNvSpPr/>
            <p:nvPr/>
          </p:nvSpPr>
          <p:spPr>
            <a:xfrm>
              <a:off x="4392360" y="4705560"/>
              <a:ext cx="1281240" cy="777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p:txBody>
        </p:sp>
        <p:sp>
          <p:nvSpPr>
            <p:cNvPr id="106" name="_s1037"/>
            <p:cNvSpPr/>
            <p:nvPr/>
          </p:nvSpPr>
          <p:spPr>
            <a:xfrm>
              <a:off x="6871320" y="3610800"/>
              <a:ext cx="1281240" cy="7768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ism</a:t>
              </a:r>
              <a:endParaRPr b="0" lang="en-US" sz="1200" spc="-1" strike="noStrike">
                <a:solidFill>
                  <a:srgbClr val="000000"/>
                </a:solidFill>
                <a:latin typeface="Arial"/>
              </a:endParaRPr>
            </a:p>
          </p:txBody>
        </p:sp>
      </p:grpSp>
      <p:sp>
        <p:nvSpPr>
          <p:cNvPr id="107" name="Text Box 55"/>
          <p:cNvSpPr/>
          <p:nvPr/>
        </p:nvSpPr>
        <p:spPr>
          <a:xfrm>
            <a:off x="3463920" y="3076560"/>
            <a:ext cx="318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Leadership</a:t>
            </a:r>
            <a:r>
              <a:rPr b="0" lang="en-US" sz="2400" spc="-1" strike="noStrike">
                <a:solidFill>
                  <a:srgbClr val="000000"/>
                </a:solidFill>
                <a:latin typeface="Arial"/>
              </a:rPr>
              <a:t> </a:t>
            </a:r>
            <a:r>
              <a:rPr b="0" lang="en-US" sz="2400" spc="-1" strike="noStrike">
                <a:solidFill>
                  <a:srgbClr val="c00000"/>
                </a:solidFill>
                <a:latin typeface="Arial"/>
              </a:rPr>
              <a:t>Style</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8ACB-E177-430F-B2A6-F9613C1678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Importance of Topic</a:t>
            </a:r>
            <a:endParaRPr b="1" lang="en-US" sz="4000" spc="-1" strike="noStrike">
              <a:solidFill>
                <a:srgbClr val="000000"/>
              </a:solidFill>
              <a:latin typeface="Arial"/>
            </a:endParaRPr>
          </a:p>
        </p:txBody>
      </p:sp>
      <p:sp>
        <p:nvSpPr>
          <p:cNvPr id="110" name="PlaceHolder 2"/>
          <p:cNvSpPr>
            <a:spLocks noGrp="1"/>
          </p:cNvSpPr>
          <p:nvPr>
            <p:ph/>
          </p:nvPr>
        </p:nvSpPr>
        <p:spPr>
          <a:xfrm>
            <a:off x="1752480" y="1218960"/>
            <a:ext cx="7391520" cy="5638680"/>
          </a:xfrm>
          <a:prstGeom prst="rect">
            <a:avLst/>
          </a:prstGeom>
          <a:noFill/>
          <a:ln w="0">
            <a:noFill/>
          </a:ln>
        </p:spPr>
        <p:txBody>
          <a:bodyPr anchor="t">
            <a:normAutofit/>
          </a:bodyPr>
          <a:p>
            <a:pPr marL="609480" indent="-6094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acher experience, which requires teachers be retained, has a positive impact on students therefore, knowledge of factors that increase teacher retention can guide administrators in implementing policies to reduce staff turnover</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incipals can use information about the outcomes of the research to guide daily professional practice</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perintendents can use information when recruiting and hiring new principals.</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incipals and mentors can share responsibility for new teacher induction, using information obtained from the new teachers themselves</a:t>
            </a: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85F8-2989-4FA5-BDD7-F669E88159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2198520" y="531720"/>
            <a:ext cx="6715440" cy="56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Arial"/>
              </a:rPr>
              <a:t>Statement of the Hypothesis</a:t>
            </a:r>
            <a:br>
              <a:rPr sz="3600"/>
            </a:br>
            <a:endParaRPr b="1" lang="en-US" sz="3600" spc="-1" strike="noStrike">
              <a:solidFill>
                <a:srgbClr val="000000"/>
              </a:solidFill>
              <a:latin typeface="Arial"/>
            </a:endParaRPr>
          </a:p>
        </p:txBody>
      </p:sp>
      <p:sp>
        <p:nvSpPr>
          <p:cNvPr id="113" name="PlaceHolder 2"/>
          <p:cNvSpPr>
            <a:spLocks noGrp="1"/>
          </p:cNvSpPr>
          <p:nvPr>
            <p:ph/>
          </p:nvPr>
        </p:nvSpPr>
        <p:spPr>
          <a:xfrm>
            <a:off x="1752480" y="1523880"/>
            <a:ext cx="7010640" cy="457200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vice teachers face many difficulties their first years in the educational profession.  Few studies have been done on the correlation between retention rate and the type and amount  of support given to novice, urban middle school teachers.  It is hypothesized that the novice teacher’s perceived level of support provided by the principal, administration, and staff affects their retention rate.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0EAF-C145-4868-8500-E5404360B1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Review of Related Literature</a:t>
            </a:r>
            <a:endParaRPr b="1" lang="en-US" sz="3600" spc="-1" strike="noStrike">
              <a:solidFill>
                <a:srgbClr val="000000"/>
              </a:solidFill>
              <a:latin typeface="Arial"/>
            </a:endParaRPr>
          </a:p>
        </p:txBody>
      </p:sp>
      <p:sp>
        <p:nvSpPr>
          <p:cNvPr id="116" name="PlaceHolder 2"/>
          <p:cNvSpPr>
            <a:spLocks noGrp="1"/>
          </p:cNvSpPr>
          <p:nvPr>
            <p:ph/>
          </p:nvPr>
        </p:nvSpPr>
        <p:spPr>
          <a:xfrm>
            <a:off x="1854000" y="1164960"/>
            <a:ext cx="7049880" cy="40813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ost new teachers felt they were not supported enough by their principals. 68% of those surveyed felt their pricipals did not develop a strong mentorship relationship (Terrell, 200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positive inductive experience for new teachers is an essential component to teacher satisfaction and retention (Halford, 200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direct contact and assistance of the principal, mentor  and       the novice teacher promotes a working relationship which sets the tone for the first years (Johnson, S. Kardos, S. 2002)</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incipals and mentors must be able to identify the strengths and weaknesses of new teachers and lend additional support that can only be provided by the administration  (Stansbury, 2001) </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3CB9-3D71-4CE4-99D7-FBEBC628D4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1752480" y="304920"/>
            <a:ext cx="73915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Review Continued</a:t>
            </a:r>
            <a:endParaRPr b="1" lang="en-US" sz="3200" spc="-1" strike="noStrike">
              <a:solidFill>
                <a:srgbClr val="000000"/>
              </a:solidFill>
              <a:latin typeface="Arial"/>
            </a:endParaRPr>
          </a:p>
        </p:txBody>
      </p:sp>
      <p:sp>
        <p:nvSpPr>
          <p:cNvPr id="119" name="PlaceHolder 2"/>
          <p:cNvSpPr>
            <a:spLocks noGrp="1"/>
          </p:cNvSpPr>
          <p:nvPr>
            <p:ph/>
          </p:nvPr>
        </p:nvSpPr>
        <p:spPr>
          <a:xfrm>
            <a:off x="1752480" y="1218960"/>
            <a:ext cx="7391520" cy="5638680"/>
          </a:xfrm>
          <a:prstGeom prst="rect">
            <a:avLst/>
          </a:prstGeom>
          <a:noFill/>
          <a:ln w="0">
            <a:noFill/>
          </a:ln>
        </p:spPr>
        <p:txBody>
          <a:bodyPr anchor="t">
            <a:normAutofit/>
          </a:bodyPr>
          <a:p>
            <a:pPr lvl="1" marL="74304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teachers quickly need to feel like they are part of a professional community.  They need to know that they are participating in the decision making process and their input is respected by their colleagues and administration (Watkins, 2005) </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ing a learning community that values the ideas and experiences of all its members will sustain new teachers through their early years (Watkins, 2005)</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f the ineffective principals were described as a floater, a principal that was not directly involved with new teachers (Angelle, 2002)</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ful principals coupled induction programs and individual assistance to maximize professional development for new teachers (Ganser 2002)</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ovice teacher is not receiving adequate support it can lead to a change in profession (Powell, 2004)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06:58:16Z</dcterms:created>
  <dc:creator>David Hernandez</dc:creator>
  <dc:description/>
  <dc:language>en-US</dc:language>
  <cp:lastModifiedBy>nicole lostritto</cp:lastModifiedBy>
  <cp:lastPrinted>2009-04-22T19:24:48Z</cp:lastPrinted>
  <dcterms:modified xsi:type="dcterms:W3CDTF">2010-10-18T20:59:30Z</dcterms:modified>
  <cp:revision>134</cp:revision>
  <dc:subject/>
  <dc:title>Teacher Induction: Easing the Beginning Teacher’s Transition into the Profession and Reducing Attri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31033</vt:lpwstr>
  </property>
</Properties>
</file>